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F03-20F9-4F1B-8BBA-AB13599E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0832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697-827C-46E3-ACE6-030797B2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0832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410832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BAE-01CF-462D-90A6-7DA58D8E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75248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75248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0832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410832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410832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C64-30C9-4E19-AD71-EAB02519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432A-83C8-4BE0-9BBC-F74A9FC1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AC3F-5E3D-414D-BB4B-201A059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DD75-4A8C-48FA-A5B3-697105B0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8477-BB0A-4B38-AAF7-CF09F274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1C61-4574-4B4B-B12F-C101700A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275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127D-C8C1-4AC3-8B7E-8CB5E265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410832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7954-C190-45BD-89FB-6D81C542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568-5C2D-469A-BACE-7F2DE1A4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410832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9388-4C5E-4D6C-8066-EAF72CA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0832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5A37-8C61-40C3-8063-8CAAC0B8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410832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3C28-A725-4A83-8463-F28B9135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10832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410832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A20C-24E4-402E-BD59-C92E75F6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75248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75248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410832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410832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4108320"/>
            <a:ext cx="2502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1CEF-872A-4C10-B584-1554D316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FDF-55CD-4CEC-8CE9-BFDF80F7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F7A-0A25-472C-9E70-84E95AB3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BA1-A939-4832-9C6F-D444374C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275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40D-743D-434D-8E39-E7E7ADB5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0832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49A-B3B9-4730-B5FD-81520CF0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410832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D4D-5207-40CE-B52F-7F8027F0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0832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EAA-A5E9-4030-BC39-B4D81E95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9080"/>
            <a:chOff x="0" y="0"/>
            <a:chExt cx="8872560" cy="685908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252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A740-35BC-4F59-90E0-3CAA3E9C631E}" type="datetime">
              <a:rPr b="0" lang="en-GB" sz="1400" spc="-1" strike="noStrike">
                <a:solidFill>
                  <a:srgbClr val="a08366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01E-2671-4C84-9159-64309755BDD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7973-3276-4EA1-9C88-7AE6F95CDA2C}" type="datetime">
              <a:rPr b="0" lang="en-GB" sz="1400" spc="-1" strike="noStrike">
                <a:solidFill>
                  <a:srgbClr val="a08366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296B-4425-47E8-AC53-88A37030329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66680" y="1676520"/>
            <a:ext cx="7467840" cy="4190760"/>
            <a:chOff x="1066680" y="1676520"/>
            <a:chExt cx="7467840" cy="4190760"/>
          </a:xfrm>
        </p:grpSpPr>
        <p:pic>
          <p:nvPicPr>
            <p:cNvPr id="90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676520"/>
              <a:ext cx="746784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 txBox="1"/>
            <p:nvPr/>
          </p:nvSpPr>
          <p:spPr>
            <a:xfrm>
              <a:off x="1066680" y="1676520"/>
              <a:ext cx="7467840" cy="419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Craft Alpha 1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480" y="2437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Development Of A New Reference Clock For Telecommunications</a:t>
            </a:r>
            <a:r>
              <a:rPr b="1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402000"/>
                </a:solidFill>
                <a:latin typeface="Times New Roman"/>
              </a:rPr>
              <a:t>And Calibration</a:t>
            </a:r>
            <a:endParaRPr b="0" lang="en-US" sz="4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ichard Percival, Clive Green and Mark Rainer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4" name="homelogo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43200" y="380880"/>
            <a:ext cx="3976560" cy="9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42B2-76F2-4712-8459-D00DADC1D8C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1066680" y="1752480"/>
            <a:ext cx="7467840" cy="4419720"/>
            <a:chOff x="1066680" y="1752480"/>
            <a:chExt cx="7467840" cy="4419720"/>
          </a:xfrm>
        </p:grpSpPr>
        <p:pic>
          <p:nvPicPr>
            <p:cNvPr id="136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1066680" y="1752480"/>
              <a:ext cx="7467840" cy="441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333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Microwave Satellite Recei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Reason for inclusion is to improv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the long term stability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of PRC &gt; Cesium derived long term stability and improve accuracy of PRC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Improvement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will be made in the software packages to algorithmically weight the satellite information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Integrate a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24-channel dual system GPS/Glonass/Galileo engine that has full EGNOS and WAAS capabilitie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Temperature controlling of the downconvertor &amp; Antenna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9CC-6A9C-414D-A356-DACF0E6CC7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066680" y="1752480"/>
            <a:ext cx="7467840" cy="4419720"/>
            <a:chOff x="1066680" y="1752480"/>
            <a:chExt cx="7467840" cy="4419720"/>
          </a:xfrm>
        </p:grpSpPr>
        <p:pic>
          <p:nvPicPr>
            <p:cNvPr id="141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066680" y="1752480"/>
              <a:ext cx="7467840" cy="441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Time Transf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1ns resolution with an accuracy of at least 5n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Input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will be a 1pps of the PRC and a reference 1pps from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a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common view GPS receiver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Software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employed will enable automatic tracking of the BIPM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schedule &gt; Autonomou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operation of the module, with automatic satellite selection and data collect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Create cost-effective method ensuring traceability for clock to highest international authoriti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D6B-93DA-4A76-9D99-D2F2D4378A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066680" y="1752480"/>
            <a:ext cx="7467840" cy="4267440"/>
            <a:chOff x="1066680" y="1752480"/>
            <a:chExt cx="7467840" cy="4267440"/>
          </a:xfrm>
        </p:grpSpPr>
        <p:pic>
          <p:nvPicPr>
            <p:cNvPr id="146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 txBox="1"/>
            <p:nvPr/>
          </p:nvSpPr>
          <p:spPr>
            <a:xfrm>
              <a:off x="1066680" y="1752480"/>
              <a:ext cx="746784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oftware Clock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A phase aligning interface module enabling the coupling of each clock to the interconnecting line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A measurement system that enables clock drift to effect weighting in the algorithm that realizes averaging of clocks in a robust system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Innovative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element of the clock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Combine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a (considerable) number of diverse frequency standards so as to result in a single time-scal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CE9-971D-4C20-868C-4762C77057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066680" y="1676520"/>
            <a:ext cx="7467840" cy="4419360"/>
            <a:chOff x="1066680" y="1676520"/>
            <a:chExt cx="7467840" cy="4419360"/>
          </a:xfrm>
        </p:grpSpPr>
        <p:pic>
          <p:nvPicPr>
            <p:cNvPr id="151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676520"/>
              <a:ext cx="746784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1066680" y="1676520"/>
              <a:ext cx="7467840" cy="44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oftware Clock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Random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behaviour of the output phase of a source should be detectable by comparison with the phase of the other sourc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Deriv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a notional time scale based on phase measurement of all the sources and phase-align all the sources to the notional time scale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Develop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computer algorithms used to derive the notional time scal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Assess importance of noise in phase aligner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183-1930-44AD-80C2-50794043F6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219320" y="1752480"/>
            <a:ext cx="7467480" cy="3621240"/>
            <a:chOff x="1219320" y="1752480"/>
            <a:chExt cx="7467480" cy="3621240"/>
          </a:xfrm>
        </p:grpSpPr>
        <p:pic>
          <p:nvPicPr>
            <p:cNvPr id="156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7467480" cy="36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1219320" y="1752480"/>
              <a:ext cx="7467480" cy="362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implified PRC Diagra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82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i="1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0" name="Hrc" descr=""/>
          <p:cNvPicPr/>
          <p:nvPr/>
        </p:nvPicPr>
        <p:blipFill>
          <a:blip r:embed="rId2"/>
          <a:stretch/>
        </p:blipFill>
        <p:spPr>
          <a:xfrm>
            <a:off x="1938240" y="1905120"/>
            <a:ext cx="636768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501-55C0-4B7A-861E-A5DC4229A3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066680" y="1752480"/>
            <a:ext cx="7467840" cy="4267440"/>
            <a:chOff x="1066680" y="1752480"/>
            <a:chExt cx="7467840" cy="4267440"/>
          </a:xfrm>
        </p:grpSpPr>
        <p:pic>
          <p:nvPicPr>
            <p:cNvPr id="162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1066680" y="1752480"/>
              <a:ext cx="746784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Measurement Syste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Development of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a new Phase Comparator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to be used for determining clock drift and deciding weighting of different clock element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System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dedicated solely to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measureme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Wideband frequency input range (2048 kHz, 13 MHz, 1544 kHz may be used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Improve sampling resolution to ~ 1000Hz in phase mode (Allan Variance </a:t>
            </a:r>
            <a:r>
              <a:rPr b="0" lang="en-US" sz="28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&lt;1s possible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7BC-E38F-47C0-A37B-D1DC2EA447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1066680" y="1752480"/>
            <a:ext cx="7467840" cy="4267440"/>
            <a:chOff x="1066680" y="1752480"/>
            <a:chExt cx="7467840" cy="4267440"/>
          </a:xfrm>
        </p:grpSpPr>
        <p:pic>
          <p:nvPicPr>
            <p:cNvPr id="167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 txBox="1"/>
            <p:nvPr/>
          </p:nvSpPr>
          <p:spPr>
            <a:xfrm>
              <a:off x="1066680" y="1752480"/>
              <a:ext cx="746784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Reliability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for time standards of all kind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whether for standard laboratory calibration,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Telecom Network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Synchronization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at the Stratum 1 level or national standards laboratori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User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-friendly system, with the modular structure enabling customer choice and cost flexibility, ease of service and the ability to upgrade when required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Extrem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reliability will be derived by virtue of multiple redundancies with all processing being accomplished in a distributed fash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5ED-145E-444C-8FE2-6F8E401BFE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066680" y="1752480"/>
            <a:ext cx="7467840" cy="4191120"/>
            <a:chOff x="1066680" y="1752480"/>
            <a:chExt cx="7467840" cy="4191120"/>
          </a:xfrm>
        </p:grpSpPr>
        <p:pic>
          <p:nvPicPr>
            <p:cNvPr id="96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1066680" y="1752480"/>
              <a:ext cx="746784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580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Introduction to CRA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commission money to develop primary reference clock for Telecom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level clock not primary frequency standar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resources and expertise of several European SME’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month duration. Start date march 200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51E-541C-406E-B8A4-B38E6C8D18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066680" y="1752480"/>
            <a:ext cx="7467840" cy="4343400"/>
            <a:chOff x="1066680" y="1752480"/>
            <a:chExt cx="7467840" cy="4343400"/>
          </a:xfrm>
        </p:grpSpPr>
        <p:pic>
          <p:nvPicPr>
            <p:cNvPr id="101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1066680" y="1752480"/>
              <a:ext cx="7467840" cy="434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Companies Involve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Quartzlock (UK) ltd- project coordinat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&amp;K Gmbh (D)- software developm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ek, Cathodean, Eltek and Menvier hybrids- thick/thin film technology, scientific glass blowing, magnetic shielding &amp; ceramic substrate hybri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rk Rainer, RF solutions &amp; Farran – h-maser and rubidium electronics, GPS and LF TX RX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TB- primary research wor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95E-2400-4A31-9182-85F1C5D951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066680" y="1752480"/>
            <a:ext cx="7467840" cy="4267440"/>
            <a:chOff x="1066680" y="1752480"/>
            <a:chExt cx="7467840" cy="4267440"/>
          </a:xfrm>
        </p:grpSpPr>
        <p:pic>
          <p:nvPicPr>
            <p:cNvPr id="106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1066680" y="1752480"/>
              <a:ext cx="746784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Goal 1: ALPHA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High-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level redundancy (unlimited) by modular arrangem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Limitles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generator conn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Cellular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division ability in the event of a crisis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Ho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swap capability with zero transients,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Nodal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connection arrangement,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Inter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-node communication ensuring robust operation and improved system integrity and security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B63-6155-482F-9260-F56B9796BC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066680" y="1752480"/>
            <a:ext cx="7467840" cy="4191120"/>
            <a:chOff x="1066680" y="1752480"/>
            <a:chExt cx="7467840" cy="4191120"/>
          </a:xfrm>
        </p:grpSpPr>
        <p:pic>
          <p:nvPicPr>
            <p:cNvPr id="111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1066680" y="1752480"/>
              <a:ext cx="746784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Goal 2: ALPHA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cellent short, medium and long term stabilit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nable standards of different performances to be combined to effectivel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ternational traceability to highest level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of multiple satellite systems ensures system strategic independence of clock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tribute to deeper understanding of wall shift problem in h-maser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527-4C6C-48B4-A3F9-CA5AC26986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143000" y="1752480"/>
            <a:ext cx="7467480" cy="4114800"/>
            <a:chOff x="1143000" y="1752480"/>
            <a:chExt cx="7467480" cy="4114800"/>
          </a:xfrm>
        </p:grpSpPr>
        <p:pic>
          <p:nvPicPr>
            <p:cNvPr id="116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143000" y="1752480"/>
              <a:ext cx="74674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1143000" y="1752480"/>
              <a:ext cx="74674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Different Elements of Proje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ssive hydrogen maser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f tracking receiv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ubidiu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icrowave satellite receiv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ftware clock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easurement syst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ime transf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ther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B5B-254C-43EA-A285-9C634A4793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066680" y="1752480"/>
            <a:ext cx="7467840" cy="4267440"/>
            <a:chOff x="1066680" y="1752480"/>
            <a:chExt cx="7467840" cy="4267440"/>
          </a:xfrm>
        </p:grpSpPr>
        <p:pic>
          <p:nvPicPr>
            <p:cNvPr id="121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1066680" y="1752480"/>
              <a:ext cx="746784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Passive Hydrogen Mas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dernize and Globalise electronic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ckage to appeal to Telecoms and non-metrology users &amp; reduce siz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corporate IRIG-B and RS232 more effectively to enable PC monitoring of health status and tim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tinue work on understanding fundamental physics limit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mprove performance in both time and frequency domai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BAC-8A32-44BD-A10B-85CE1F4936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066680" y="1752480"/>
            <a:ext cx="7467840" cy="4267440"/>
            <a:chOff x="1066680" y="1752480"/>
            <a:chExt cx="7467840" cy="4267440"/>
          </a:xfrm>
        </p:grpSpPr>
        <p:pic>
          <p:nvPicPr>
            <p:cNvPr id="126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746784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1066680" y="1752480"/>
              <a:ext cx="746784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Lf Tracking Receiv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of microprocessor enables synthesizer to be used &gt; multiple input carrier frequenc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e instrument that works on MSF, DCF 77, France inter, WWVB and other LF transmiss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gital filtering techniques will allow longer time constants thus improving medium term stabili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rmal stability to be improved by reducing bandwidth of receiver to &lt;1 Hz. Removes need for narrow band tuned circui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erformance limiting factor should be LO quali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FAC-6578-4FE7-9611-2E9F7C0358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066680" y="1676520"/>
            <a:ext cx="7467840" cy="4343400"/>
            <a:chOff x="1066680" y="1676520"/>
            <a:chExt cx="7467840" cy="4343400"/>
          </a:xfrm>
        </p:grpSpPr>
        <p:pic>
          <p:nvPicPr>
            <p:cNvPr id="131" name="a7%20usno%20test" descr=""/>
            <p:cNvPicPr/>
            <p:nvPr/>
          </p:nvPicPr>
          <p:blipFill>
            <a:blip r:embed="rId1"/>
            <a:stretch/>
          </p:blipFill>
          <p:spPr>
            <a:xfrm>
              <a:off x="1066680" y="1676520"/>
              <a:ext cx="746784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 txBox="1"/>
            <p:nvPr/>
          </p:nvSpPr>
          <p:spPr>
            <a:xfrm>
              <a:off x="1066680" y="1676520"/>
              <a:ext cx="7467840" cy="434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Rubidiu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Increase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the reliability and environmental stabili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ke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progress towards </a:t>
            </a:r>
            <a:r>
              <a:rPr b="0" i="1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extending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lifetime of lamp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Increas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the range (ambient) over which the unit may perform to -65 deg C to +65 deg C, with a potential base plate temperature of over 90deg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C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Enclosur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of ~220cc has been proposed with a potential for 150cc version with OCXO footprin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9E7-2642-479F-82D9-DF055D6900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5:35:13Z</dcterms:created>
  <dc:creator>Richard Percival</dc:creator>
  <dc:description/>
  <dc:language>en-US</dc:language>
  <cp:lastModifiedBy>percival</cp:lastModifiedBy>
  <dcterms:modified xsi:type="dcterms:W3CDTF">2000-03-13T08:56:47Z</dcterms:modified>
  <cp:revision>9</cp:revision>
  <dc:subject/>
  <dc:title>Reporting Status or Progress</dc:title>
</cp:coreProperties>
</file>